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595-F6B4-4C86-8885-7072DB76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11A-0050-4264-B968-16A547A3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9E1-253A-4A2B-8C9D-A403040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763-9295-4DD1-9A32-07F8E3C7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1296-EAD0-4BE2-B709-6CB865FB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9C61-B707-473A-9092-E189E2A0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37DA-C230-4A34-8C48-827AC9F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6EAD-C65E-4437-A2C1-76C4E7D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122B-4944-4788-A02B-F756945E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1FDD-9855-408E-AA34-D9A3A9F4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6DD5-E3F8-4F5D-8BD4-38BF38E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CB7-326F-4D4B-BAC9-4B6C0E1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713-688D-4D7D-9340-063AD8E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33E-07F5-4437-AD84-1741FB5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E5D1-698B-4E92-AE48-5EE8BF35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F0D-50A1-42F2-85A6-277E038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3C06-230F-4F12-9503-1BFE7EE5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E00-F34B-4F5B-A1E9-D58D52C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D1A-DADF-4C15-B026-BC41BB66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97A-0010-44AD-94CE-D7FBD2EC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481-1041-4DA7-A1EB-241ACDD1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BF1-752D-48C5-B65A-4A26443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7B5-96B4-435B-AFE6-1863B03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07C-DE48-4F31-BC8D-BD86F02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4B3-F30B-4667-B1AB-9D1BF3F77A7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C1A-FB4F-4104-9909-D8AE0D6C678F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ng. Miroslav Kučera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akulta strojní ČVUT v Pra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stav techniky prostře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mail: miroslav.kucera@fs.cvut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2276640"/>
            <a:ext cx="8280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ovela § 77 zákona č. 258/2000 Sb., o ochraně veřejného zdrav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eprovede-li stavebník dostatečná opatření k ochraně před hlukem, nemůže žádat, aby tato opatření provedl provozovatel, vlastník nebo správce zdroje hluku. To neplatí, dojde-li k prokazatelnému navýšení hluku ze zdroje hluku; co se považuje za prokazatelné navýšení hluku, stanoví prováděcí právní předpi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rovozovatele zdroje hluku pokud byl v území první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prokazatelném nárůstu hlučnosti zdroje, úpravy leží na provozovateli zdroj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rh stavebníka na odloženou realizaci protihlukové ochrany chráněné stavby do doby realizace plánované výstavby např. pozemní komunikace, nelze akceptova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611280" y="1125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ochraně zdraví před nepříznivými účinky hluku a vibr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o novelizováno a je platné ve zně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bdélník 1"/>
          <p:cNvSpPr/>
          <p:nvPr/>
        </p:nvSpPr>
        <p:spPr>
          <a:xfrm>
            <a:off x="611280" y="17208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by, objekty, provozovny, nepohybující se stroje a zařízení pevně fixované na své místo nebo ty, jejichž akční rádius je při pracovním nasazení omezen…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ionární zdroje hluku se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nejs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droje související s činnostmi spojenými s běžným užíváním bytu, bytového domu, rodinného domu, stavby pro rodinnou rekreaci a pozemků k nim náležejících, </a:t>
            </a:r>
            <a:r>
              <a:rPr b="0" lang="cs-CZ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s výjimkou zařízení pro větrání a vytápě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, která jsou nedílnou součástí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kolaudována se stavbo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y pro chráněné prostory zůstávají    50/40  a 40/30 d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zení - klimatizace (chladí a netopí) - kolaudace – stac. zdro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nesena dodatečně – sousedský hl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bdélník 1"/>
          <p:cNvSpPr/>
          <p:nvPr/>
        </p:nvSpPr>
        <p:spPr>
          <a:xfrm>
            <a:off x="611280" y="1720800"/>
            <a:ext cx="79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em významným z hlediska pronikání hluku je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d výplní otvoru obvodového pláště stavby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jišťující přímé přirozené větr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a níž se nachází chráněný vnitřní prostor stavby,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to chráněný prostor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přímo větrat jina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rání tlumenými štěrbinami na fasádě je povol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nelze provětrávat přes sousední místno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na mohou být otevíratelná avšak při jejich uzavření musí být splněn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ký lim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m vlády č. 272/2011 Sb. v platném zn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/2016 S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Obdélník 1"/>
          <p:cNvSpPr/>
          <p:nvPr/>
        </p:nvSpPr>
        <p:spPr>
          <a:xfrm>
            <a:off x="539640" y="17208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okazatelné navýšení  hluku zdroje se považuje  navýšení větší než 2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ze považovat za hodnotitelnou změnu rozdíl v intervalu 0,1 až 0,9 d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ění hygienického limit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4581360"/>
            <a:ext cx="5184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7" name="Objekt 3"/>
          <p:cNvGraphicFramePr/>
          <p:nvPr/>
        </p:nvGraphicFramePr>
        <p:xfrm>
          <a:off x="1692360" y="4348080"/>
          <a:ext cx="520056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348080"/>
                    <a:ext cx="5200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539640" y="285264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je dotčeným správním úřadem při rozhodování ve věcech upravených zvláštními právními předpisy 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2)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se dotýkají zájmů chráněných orgánem ochrany veřejného zdraví podle tohoto zákona a zvláštních právních předpisů včetně hodnocení a řízení zdravotních rizik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rgán ochrany veřejného zdraví vydává v těchto věcech stanovisk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hlas může orgán ochrany veřejného zdraví vázat na splnění podmínek. Stanovisko není rozhodnutím vydaným ve správním říz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23480" indent="-123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hledisek stavebního zákona jde zejména o problematiku </a:t>
            </a:r>
            <a:r>
              <a:rPr b="0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hrany před hlukem, vibracem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ionizujícím záření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případě, že je v platné územně plánovací dokumentaci uveden záměr, u kterého lze důvodně předpokládat, že bude po uvedení do provozu zdrojem hluku nebo vibrac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jména z provozu na pozemních komunikacích nebo železničních drahách,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elze ke stavbě, která by mohla být tímto hlukem či vibracemi dotčena, vydat kladné stanovisko orgánu ochrany veřejného zdraví, aniž by u ní byla přijata opatření k ochraně před hlukem nebo vibracemi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 zajistit „prioritu v území“ strategickým stavbám infrastruktury (pozemním komunikacím a drahám) již ve fázi zanesení budoucí trasy do územně plánovací dokument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 je umisťování „chráněných staveb “ i v lokalitách, v jejichž těsné blízkosti jsou navrženy trasy liniových staveb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13040" indent="-113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datečná zátěž provozovatelů  protihlukovými opatřeními, která jsou mnohdy technicky nemožná nebo nedostatečn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 o stavby bytových domů, rodinných domů, stavby pro předškolní a školní výchovu a vzdělávání, stavby pro zdravotní a sociální účely, jakož i funkčně obdobné stavb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ěný vnitřní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bytové místnosti ve stavbách zařízení pro výchovu a vzdělávání, pro zdravotní a sociální účely a ve funkčně obdobných stavbách a obytné místnosti ve všech stavbách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33560" indent="-133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 hluku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iště, pozemní komunikace, dráhy, stavby či jiná zařízení (s výjimkou venkovního prostoru) poskytnutá k pořádání veřejné produkce hudby, provozovny a další objekty, jejichž provozem vzniká hluk, ale i stroje a zařízení, které jsou zdrojem hluku nebo vibrac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odst. 1 zákona č. 258/2000 Sb.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noví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 zdroje, pořadatel hudební akce, ale také majitel pozemku či objektu, na kterém je zdroj hluku umístěn aj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sou povinny technickými, organizačními a dalšími opatřeními zajistit, aby hluk nepřekračoval hygienické lim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ou před hlukem se rozumí ochrana před „nadlimitním hlukem“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že je-li hluk podlimitní, není nutné přijímat žádná opatření k ochraně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se stavba umisťuje ke zdroji hluku do území, které není zasaženo nadlimitním hlukem, nejsou pro stavebníka žádná omezení, resp. není povinnost realizovat protihluková opatření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2520" indent="-9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rana před hluke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ázat, že dané území není zatíženo zdrojem (nadlimitního) hluku, lze výpočte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e, že vypočtená hodnota je o více než 3,0 dB nižší, než hodnota relevantního hygienického limit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eží výpočtový bod v „podlimitním“ území, neposuzuje se v daném místě zvýšení hluku o 2,0 dB a více. Jakmile by se v budoucnosti měřením prokázalo, že hluk je nadlimitní, znamená to, že povinnou osobou je provozovatel zdroje hluku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09440" indent="-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umisťování stavby do území není přípustné překročení hygienických limitů ani o 0,1 dB.  (logaritmický součet 40 +25 =40,1dB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avební úřad vždy zajistí, aby záměr žadatele ke stavbě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tového domu, rodinného domu, stavbě pro předškolní nebo školní vzdělávání, stavbě pro zdravotní nebo sociální účely anebo k funkčně obdobné stavbě a ke stavbě zdroje hluku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l z hlediska ochrany před hlukem posouzen příslušným orgánem ochrany veřejného zdraví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0920" indent="-160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em je, aby vstupuje-li chráněná stavba do území jako druhá, byl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innos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hlukových opatření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a straně stavební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áněné stavby,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koli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</a:t>
            </a:r>
            <a:r>
              <a:rPr b="0" lang="cs-CZ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ozovateli zdroj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uku, který byl v území první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§ 77 zákona č. 258/2000 S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39640" y="981000"/>
            <a:ext cx="828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Žadatel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vydání územního rozhodnutí, územního souhlasu nebo společného souhlasu ke stavbě podle odstavce 3 do území zatíženého zdrojem hlu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dlimitním hlukem)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ředloží příslušnému orgánu ochrany veřejného zdrav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ydání stanoviska podle odstavce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měření hluku provedené podle § 32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ávrh opatření k ochraně před hlukem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ání ten, kdo vstupuje do území jako druhý“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ější prax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uje-li zdroj hluku do území, ve kterém je umístěna chráněná zástavba, musí zajistit svůj budoucí provoz tak, aby nebyly překračovány hygienické lim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5760" indent="-9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chráněné stavby nebyl nikterak omez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9:18Z</dcterms:created>
  <dc:creator>Novy</dc:creator>
  <dc:description/>
  <dc:language>en-US</dc:language>
  <cp:lastModifiedBy>U12116</cp:lastModifiedBy>
  <dcterms:modified xsi:type="dcterms:W3CDTF">2016-10-10T16:40:47Z</dcterms:modified>
  <cp:revision>261</cp:revision>
  <dc:subject/>
  <dc:title>Hlučnost vytápěcích soustav</dc:title>
</cp:coreProperties>
</file>